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60A-C725-4B13-9107-33585937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7B6-C8A3-4DB0-8A42-4EA7A81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4EC-23C3-4484-9502-41CF6910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3C0-A093-4EFE-B3D8-34DC20FB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498-2CEE-4C5C-9616-04376CA7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140-4F3D-4EBF-840F-C30D34D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094-D5CD-485D-B3C4-774611B1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56C-8C8B-4618-99D7-8EA6C5E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DF9-056B-4B38-89DA-EEACA00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066-517C-438E-B2B6-7ACFF73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555-94E9-450B-9FBC-836D6158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F7C-E25B-4C83-827A-A7C6D75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347-B5BA-483B-9340-14498B75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.mit.edu/invent/iow/mar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be3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447920"/>
            <a:ext cx="7239240" cy="30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4572000"/>
            <a:ext cx="2590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la Mu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523880" cy="129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7320" y="495288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 E. Mars, 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152280"/>
            <a:ext cx="5181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: Free Play Music, Hope Alive, Sept. 23, 2011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34340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2e098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ars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93840" y="438300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96252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6360" y="4267080"/>
            <a:ext cx="645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&amp;M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. 19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ar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2760" y="304920"/>
            <a:ext cx="61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 E. Mars, Sr. put a coating on M&amp;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chocolate doesn’t melt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orrest E. Mars, S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rest E. Mars was born on March 21, 190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built a chocolate candy emp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 set up a small candy factory in Eng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died on July 1, 1814, at the age of 9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2e098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M’s has a coating around it so it prevents the chocolate from melting. (“Melt in your mouth, not in your hand.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dy was originally sold in paper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0, the company began imprinting a “ m” on each candy to inform customers they were getting the original c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M’s were the official candy at the 1984 Olympics in Los Ang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ime of Mars’s death, M&amp;M’s estimated $4 billion of pro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M’s/Mars employs 30,00 worldwide with sales of more than $20 billion per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27Z</dcterms:created>
  <dc:creator>install</dc:creator>
  <dc:description/>
  <dc:language>en-US</dc:language>
  <cp:lastModifiedBy>install</cp:lastModifiedBy>
  <dcterms:modified xsi:type="dcterms:W3CDTF">2011-09-26T13:56:35Z</dcterms:modified>
  <cp:revision>9</cp:revision>
  <dc:subject/>
  <dc:title>Slide 1</dc:title>
</cp:coreProperties>
</file>